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3AB-E195-406D-BBFF-8415BAFF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193-E83C-4215-907B-AAF8BE7B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895-0642-4080-9D36-45BEB242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0A2-205D-421A-8B41-EB3C2537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701-7EB7-4825-91B2-0F1C1BE7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2C6-C4CE-4243-9D30-5CA81DCE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D7B-BF19-4295-A296-13D49590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DF5-5D3E-46FA-A8EC-85D665D4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6A8-4639-4BD7-8EB4-B1418B3E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544-B5F9-4630-8BFD-D6DB14C0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7EA-1394-4ABA-819C-1376ABD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CA2-F57B-4B60-9E7D-406D00D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F987-076F-467E-A219-08C354E14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χολική ζωή και ίντερνε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μάδες Ερευνητικής Εργασ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 ομάδα : Ψυχαγωγία – ελεύθερος χρόνος – μουσικ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Καπογιαννάτος Μιχάλη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άπα Μαλφίντ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Γεωργόπουλος Νικόλαο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Τίτικα Μπρούν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πυρόπουλος Θεοχάρη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 ομάδα : Σχολικές εργασίε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Αμπτούν Αλ Γκασπά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κριπκάρι Ρόμπερ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Βαλλιανάτος Πάτσ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 ομάδα : Κοινωνική δικτύωση – επικοινωνί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πανός Ευάγγελο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Τσούκο Τζουλιάνν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Τζάκη Ατζουλέτ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Κρεμμύδιας Πέτρο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 ομάδα : Σχολικές ιστοσελίδε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ορφέτας Μεμουή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παθώνης Ευάγγελο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Ξυλοβεργάτος Θεοφάνη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Βινιέρης Ευστάθιο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Υπεύθυνοι παρουσίασης – ιστοσελίδ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Γεράσιμος Γκλόμη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όλων Σόλω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060640"/>
            <a:ext cx="165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125360"/>
            <a:ext cx="2519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916280"/>
            <a:ext cx="266544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76720" y="285264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3500280"/>
            <a:ext cx="2808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268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Δημιουργία ερωτηματολογί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1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Συλλογή απαντήσε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5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Μέτρηση - καταχώρι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3933720"/>
            <a:ext cx="158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933720"/>
            <a:ext cx="201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2000" y="4076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Δημιουργία γραφημά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851280" y="4797360"/>
            <a:ext cx="1657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5373720"/>
            <a:ext cx="2087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530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Δημιουργία ιστοσελίδας με αποτελέσ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09:51:22Z</dcterms:created>
  <dc:creator>user11</dc:creator>
  <dc:description/>
  <dc:language>en-US</dc:language>
  <cp:lastModifiedBy>user11</cp:lastModifiedBy>
  <dcterms:modified xsi:type="dcterms:W3CDTF">2013-01-14T11:53:53Z</dcterms:modified>
  <cp:revision>6</cp:revision>
  <dc:subject/>
  <dc:title>Σχολική ζωή και ίντερνετ!</dc:title>
</cp:coreProperties>
</file>