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735-61AF-4DBA-ABDC-B3360DAA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DED-79C7-4377-8B0C-0A2B8D9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574-BCB6-4157-BF7B-2724296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22E-202F-4B92-811A-D84B4675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348-2A59-4EA0-AED3-F43E763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7A6-7690-4A2E-AB34-4907653E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0CA-07DA-408B-85A9-AF3F3CF9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A59-E837-46B9-ACB7-FBA3C173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B08-BD97-4C21-8042-55620085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E72-1809-4AC4-958F-7A4D4C82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DE1-3593-43FB-974D-6785575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627-6AAA-4C7A-B7AD-0213E7B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0A63-EEBD-406F-BFF0-066DAC0D5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692280"/>
            <a:ext cx="6800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ΧΟΛΙΚΕΣ ΕΡΓΑΣΙ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ΓΕΡΑΣΙΜΟΣ ΒΑΛΛΙΑΝ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ΙΟΝΥΣΗΣ ΓΚΑΖΑ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ΡΟΜΠΕΡΤ ΣΚΡΙΠΚΑΡΙ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ΗΜΙΟΥΡΓΙΑ ΕΡΩΤΗΣΕΩΝ ΤΟΥ ΕΡΩΤΗΜΑΤΟΛΟΓΙ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ι ερωτήσεις που υπήρχαν στο ερωτηματολόγιο είχαν βασιστεί πάνω στο θέμα που μας είχε αναθέσει ο καθηγητής .Το θέμα ήταν σχετικά με τις σχολικές εργασίες και συγκεκριμένα με την επιρροή της τεχνολογίας πάνω σε αυτέ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ήσαμε το ερωτηματολόγιο με τι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ξής ερωτήσει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ΣΤΕΥΕΙΣ ΠΩΣ ΕΙΝΑΙ ΧΡΗΣΙΜΟΣ Ο ΥΠΟΛΟΓΙΣΤΗΣ ΓΙΑ ΤΙΣ ΣΧΟΛΙΚΕΣ ΣΟΥ ΕΡΓΑΣΙΕ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ΣΟ ΣΥΧΝΑ ΧΡΙΣΗΜΟΠΟΙΕΙΣ ΤΟΝ ΥΠΟΛΟΓΙΣΤΗ ΣΟΥ ΓΙΑ ΣΧΟΛΙΚΕΣ ΕΡΓΑΣΙΕ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Α ΠΡΟΓΡΑΜΜΑΤΑ ΧΡΗΣΙΜΟΠΟΙΕΙΣ ΓΙΑ ΤΙΣ ΣΧΟΛΙΚΕΣ ΕΡΓΑΣΙΕΣ ΣΟ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ΕΣ ΙΣΤΟΣΕΛΙΔΕΣ ΕΠΙΣΚΕΠΤΕΣΑΙ ΓΙΣ ΝΑ ΒΡΕΙΣ ΠΛΗΡΟΦΟΡΙΕΣ ΣΧΕΤΙΚΑ ΜΕ ΤΙΣ ΣΧΟΛΙΚΕΣ ΣΟΥ ΕΡΓΑΣΙΕ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ΤΗΝ ΒΟΗ8ΕΙΑ ΤΟΥ ΥΠΟΛΟΓΙΣΤΗ ΕΧΕΙ ΒΕΛΤΕΙΩΘΕΙ Ή ΕΧΕΙ ΜΕΙΩΘΕΙ Η ΙΚΑΝΟΤΗΤΑ ΣΟΥ ΚΑΙ ΟΙ ΕΠΙΔΩΣΕΙΣ ΣΟΥ ΣΤΙΣ ΣΧΟΛΙΚΕΣ ΕΡΓΑΣΙΕΣ ΣΟ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ΗΣΙΜΟΠΟΙΕΙΣ ΠΕΡΙΣΣΟΤΕΡΟ ΑΠΟ ΤΑ ΔΥΟ,ΤΟΝ ΥΠΟΛΟΓΙΣΤΗ Ή ΤΙΣ ΕΓΚΥΚΛΟΠΑΙΔΕΙΕ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 ΤΗΝ ΓΝΩΜΗ ΣΟΥ,ΠΟΥ ΥΠΑΡΧΟΥΝ ΠΙΟ ΕΓΚΥΡΕΣ ΠΛΗΡΟΦΟΡΙΕΣ ΣΤΟΝ ΥΠΟΛΟΓΙΣΤΗ Ή ΣΤΙΣ ΕΓΚΥΚΛΟΠΑΙΔΕΙΕ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700360" y="11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ΤΕΛΕΣΜΑ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25360"/>
          <a:ext cx="9144000" cy="26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0" y="4005360"/>
          <a:ext cx="9144000" cy="230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005360"/>
                    <a:ext cx="9144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-181080" y="6858000"/>
          <a:ext cx="4524480" cy="1714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81080" y="6858000"/>
                    <a:ext cx="45244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533840" y="6669000"/>
          <a:ext cx="4610160" cy="1619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3840" y="6669000"/>
                    <a:ext cx="461016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981000"/>
          <a:ext cx="9144000" cy="24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0" y="3573360"/>
          <a:ext cx="9144000" cy="244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73360"/>
                    <a:ext cx="9144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4869000"/>
          <a:ext cx="914400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69000"/>
                    <a:ext cx="914400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0" y="2637000"/>
          <a:ext cx="9144000" cy="223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9144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0" y="0"/>
          <a:ext cx="9144000" cy="2664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0:47:18Z</dcterms:created>
  <dc:creator>user10</dc:creator>
  <dc:description/>
  <dc:language>en-US</dc:language>
  <cp:lastModifiedBy>user05</cp:lastModifiedBy>
  <dcterms:modified xsi:type="dcterms:W3CDTF">2013-01-14T11:59:20Z</dcterms:modified>
  <cp:revision>3</cp:revision>
  <dc:subject/>
  <dc:title>Διαφάνεια 1</dc:title>
</cp:coreProperties>
</file>