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5220-C5B4-4440-ADF2-8DEA6F22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F589-B81A-4FBB-B2F6-6FE99CA6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131A-25D3-4454-9A5B-24099B06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93CB-048F-4502-82C0-06A1CD55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D46-5115-4409-B40A-D35CD53F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2E2-E6F6-428E-AF0F-D53EF0CD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B7F-3CA5-4A14-96FC-02F3BE28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6E6A-78F4-44F2-8B05-665D1392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6C8-EA39-4078-A312-606FDFD3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0077-5259-4A53-960C-9B3AFFBF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F15-794D-437E-9B39-CC95C07F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3E3-8346-4D3B-BCA9-83B47E41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3BA2-CAD6-4E6C-8A1C-BDA06E78BFF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Σχολικές ιστοσελίδες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έλ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ιοράτος Γιάνν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άθης Βινιερ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παθώνης Βαγγέλ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ολφέτας Γεράσιμο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εργάτος Φάν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00000" y="836640"/>
          <a:ext cx="7520040" cy="50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836640"/>
                    <a:ext cx="752004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11280" y="836640"/>
          <a:ext cx="7524720" cy="50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752472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623960" y="1900080"/>
          <a:ext cx="5896080" cy="39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3960" y="1900080"/>
                    <a:ext cx="589608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Συμπεράσματ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ject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ας επέτρεψε να εργαστούμε ομαδικά και να γνωριστούμε καλύτερα. Επιπλέο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άθαμε να αναζητούμε πληροφορίες από διαφορετικές πηγές όπως, το διαδίκτυο και μας προσέφερε γνώσεις σχετικά με το διαδίκτυο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πίσης, μάθαμε να χρησιμοποιούμ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λύτερα τ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και τ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.Καθώς και να παρουσιάζουμε εργασίες στ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σον αναφορά τις σχολικές ιστοσελίδες κάναμε έρευνα σχετικά με τα παρακάτω θέματ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έα του σχολεί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αρουσιάσεις και εικόνες σχολικών και  μαθητικών εκδηλώσεω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ρευνητικές εργασί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Forum του σχολείου για σχολιασμούς ασκήσεω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Φωτογραφίες του σχολεί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χολικά βοηθήματα με ασκήσ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ρευνα για πραγματοποίηση σχολικών εργασιών ανά τάξει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κπαιδευτικό υλικ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ρωτηματολόγι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οιχεία επικοινωνί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έρευνα έγινε στους νομού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ττικής,Ηλείας,Αρκαδίας,Μεσσηνίας,Αχαϊ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900000" y="907920"/>
          <a:ext cx="7191360" cy="459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907920"/>
                    <a:ext cx="7191360" cy="459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55640" y="907920"/>
          <a:ext cx="7335720" cy="46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07920"/>
                    <a:ext cx="7335720" cy="46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11280" y="907920"/>
          <a:ext cx="7515000" cy="480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07920"/>
                    <a:ext cx="7515000" cy="48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39640" y="907920"/>
          <a:ext cx="7515360" cy="480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07920"/>
                    <a:ext cx="7515360" cy="48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826920" y="981000"/>
          <a:ext cx="7456680" cy="461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81000"/>
                    <a:ext cx="7456680" cy="46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84360" y="981000"/>
          <a:ext cx="7515000" cy="480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81000"/>
                    <a:ext cx="7515000" cy="48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84360" y="981000"/>
          <a:ext cx="7515000" cy="480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81000"/>
                    <a:ext cx="7515000" cy="48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0:04:57Z</dcterms:created>
  <dc:creator>User06</dc:creator>
  <dc:description/>
  <dc:language>en-US</dc:language>
  <cp:lastModifiedBy>User06</cp:lastModifiedBy>
  <dcterms:modified xsi:type="dcterms:W3CDTF">2013-01-09T10:33:06Z</dcterms:modified>
  <cp:revision>4</cp:revision>
  <dc:subject/>
  <dc:title>Σχολικές ιστοσελίδες  </dc:title>
</cp:coreProperties>
</file>